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8B6D4-5A4A-4BDA-ADF5-782F44E070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5F5B-170C-452E-909E-033DA0E55C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51730-4A3E-45DC-9CBB-BC3937CF8F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E0ACB-AA7A-459C-B7C5-23D8E45487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C5C3F-3691-44CA-9F4E-C6130AAE6B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29AC-09F4-4073-BDB0-82DB34FC40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E0E7-B736-4B44-AF39-626221D015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A54CD-8F14-4ACF-8BED-C7E6C3DD34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5D54-6F5C-4CC8-B70C-9140F9E728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B00F-D127-4A17-93C0-86A24F752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181B8-24B5-4553-B1AB-5DAC2AA050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9EE58-99EC-48D2-8EFB-2910848989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543880" y="6242040"/>
            <a:ext cx="600120" cy="6159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581280" y="6597720"/>
            <a:ext cx="5105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DSI Technical Conference 2007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Sacramento, CA  USA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■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October 18-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248520"/>
            <a:ext cx="685800" cy="6094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477120" y="6324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n t e l l i g e n t  T o o l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4e7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8534160" y="5790960"/>
            <a:ext cx="609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2B0F-FA92-4F88-A594-BF34CABD2984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4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7.png"/><Relationship Id="rId14" Type="http://schemas.openxmlformats.org/officeDocument/2006/relationships/image" Target="../media/image9.png"/><Relationship Id="rId15" Type="http://schemas.openxmlformats.org/officeDocument/2006/relationships/image" Target="../media/image18.png"/><Relationship Id="rId16" Type="http://schemas.openxmlformats.org/officeDocument/2006/relationships/image" Target="../media/image13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6386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Presented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75859"/>
                </a:solidFill>
                <a:latin typeface="Arial"/>
              </a:rPr>
              <a:t>Miguel Esco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533520"/>
            <a:ext cx="8229600" cy="76176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nergetic Data Systems, Inc.</a:t>
            </a:r>
            <a:br>
              <a:rPr sz="4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400480"/>
            <a:ext cx="85341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859"/>
                </a:solidFill>
                <a:latin typeface="Arial"/>
              </a:rPr>
              <a:t>Sessi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09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6968F-0FB9-43C4-818D-25997F7CFEE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24480" cy="28479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B24A1-F63F-4F1B-A8D9-9A696BDE501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40575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9B8E-7A47-42B5-BB72-59137034BB6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8028000" cy="31906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A08AC-22B9-41CB-9B94-867A8ED0FE8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14400" y="1257480"/>
            <a:ext cx="800892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615E5-E873-47BA-93B6-95EBA3F7CF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7027920" cy="2152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50E5-E24A-4A32-86D0-80B6DD6834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elive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(s)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subjob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very “properties”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email and fax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1CAB4-9B6D-4678-A234-5CBA63FC62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4F6B-FB99-4140-B8EC-61D6D4A930D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very Methods:  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copy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C4DA3-6773-4F73-A34D-A35EE6A459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rieval Metho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fixed loc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delimited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v textfile look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DBC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97051-D927-4C7D-B780-0CCCC239DDB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893B-5BEE-4D15-A18B-4005C165698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utlin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 of component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emplatize rule-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x featur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5D17-BB55-4E66-92B4-8C9C045F92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229600" cy="3506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BECE9-8C61-489C-BD1F-1A6D6235EB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/ Doc ID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25207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3F3F8-7D8C-4ACE-BCFC-46305565170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00024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FF6B-ACF0-4E9B-BD75-023722B8D36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Specific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43448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32F1E-0AA3-4BD8-BD78-9F8B703E17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58672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185840"/>
            <a:ext cx="7772400" cy="4484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1BF5B-1372-42FB-B6C4-B7B32E8087F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oc?_*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Override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860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A7FA-CBAF-4792-A60B-7F49AC70ACE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914400" y="1324080"/>
            <a:ext cx="5581800" cy="4209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216B6-F219-49AC-BD87-F88338485E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581800" cy="26953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EC2F-701F-4AB1-891B-63ED8257D7D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914400" y="1185840"/>
            <a:ext cx="5572080" cy="44863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957B-BF63-4A46-BB26-70FCE9965F7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6343560" cy="38671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69235-B0FD-4A80-90AC-D59E4D32AE4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5486400" y="144792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integrator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.rul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ed b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sd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AC9B2-CD70-4B3C-9EA4-D9DCA3154EA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[ X EDELIVER GLOBAL SETUP ] Rule-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38880" cy="513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BC147-1397-4A51-A6FF-1273163FE7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914400" y="3403440"/>
            <a:ext cx="7543800" cy="27594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C27BE-0BF3-4C2E-A967-59FA2A15DE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36450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914400" y="1219320"/>
            <a:ext cx="5181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6002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19B6E-D357-4C3F-AEBA-CE9DDFE3C49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7580160" cy="243828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719280" y="1981080"/>
            <a:ext cx="7510320" cy="42246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C5722-39D7-4BE5-AA97-58A098FCCA0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tmp/eDoc/eDocAll_2007_1003.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4857840" cy="44672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14400" y="129528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lobal EDOC_DEBUGLEV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29E1C-E7B2-4880-965E-6AB8514E823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Deliver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ahun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055 lines of codeblock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delivery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ail / fax / las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ultaneously for same doc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templates swap in/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address retrieval method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sence” of eDelivery only 1K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486400" y="2133720"/>
            <a:ext cx="2819520" cy="2228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decfc0"/>
                </a:solidFill>
                <a:latin typeface="Arial"/>
              </a:rPr>
              <a:t>INDEPENDENCE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INTAIN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486400" y="838080"/>
            <a:ext cx="365760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DeliverEngin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68E20-0F36-4DBA-8872-5CA3C7221EE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467160" cy="52387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486400" y="1523880"/>
            <a:ext cx="274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 tha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K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0570A-A013-4A11-ACD6-6C86AF2CBF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62440" cy="47336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400800" y="1219320"/>
            <a:ext cx="228600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ity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ivery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stor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9A2D1-12ED-4343-A4B8-006E7731490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sence of eDeliverEngin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5448240" cy="53434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6400800" y="1219320"/>
            <a:ext cx="2286000" cy="42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in subjo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f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 ID chan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exec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delive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close 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4FB1-6878-4995-A35C-794A72FE5FC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7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9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1"/>
          <a:stretch/>
        </p:blipFill>
        <p:spPr>
          <a:xfrm>
            <a:off x="2514600" y="4114800"/>
            <a:ext cx="990720" cy="24912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12"/>
          <a:stretch/>
        </p:blipFill>
        <p:spPr>
          <a:xfrm>
            <a:off x="3809880" y="3352680"/>
            <a:ext cx="990720" cy="2192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05320" y="152280"/>
            <a:ext cx="5486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&amp; Delivery  Ext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276720" y="9907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05320" y="838080"/>
            <a:ext cx="441936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 rule-file, rule-set extensions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3429000"/>
            <a:ext cx="3352680" cy="228744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4572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nd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of Ses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D88BC-7EF1-4F85-A891-A2953E1F167F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152280"/>
            <a:ext cx="2895480" cy="3276720"/>
          </a:xfrm>
          <a:prstGeom prst="rect">
            <a:avLst/>
          </a:prstGeom>
          <a:solidFill>
            <a:srgbClr val="efe8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1447920"/>
            <a:ext cx="733680" cy="5238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388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2514600" y="1447920"/>
            <a:ext cx="828720" cy="523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2514600" y="762120"/>
            <a:ext cx="828720" cy="514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762120" y="2133720"/>
            <a:ext cx="1609560" cy="1152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09480" y="272880"/>
            <a:ext cx="2743200" cy="368280"/>
          </a:xfrm>
          <a:prstGeom prst="rect">
            <a:avLst/>
          </a:prstGeom>
          <a:solidFill>
            <a:srgbClr val="dec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a s e   U n F o r m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1981080"/>
            <a:ext cx="0" cy="114300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228600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25606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281952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124080"/>
            <a:ext cx="380880" cy="0"/>
          </a:xfrm>
          <a:prstGeom prst="line">
            <a:avLst/>
          </a:prstGeom>
          <a:ln w="38160">
            <a:solidFill>
              <a:srgbClr val="5689a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1295280"/>
            <a:ext cx="0" cy="15264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62320" y="1676520"/>
            <a:ext cx="152280" cy="0"/>
          </a:xfrm>
          <a:prstGeom prst="line">
            <a:avLst/>
          </a:prstGeom>
          <a:ln w="3816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8120" y="1981080"/>
            <a:ext cx="0" cy="160020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4724280" y="152280"/>
            <a:ext cx="914400" cy="507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3809880" y="152280"/>
            <a:ext cx="828720" cy="514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57600" y="38088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9"/>
          <a:stretch/>
        </p:blipFill>
        <p:spPr>
          <a:xfrm>
            <a:off x="3809880" y="3352680"/>
            <a:ext cx="1295640" cy="2858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0"/>
          <a:stretch/>
        </p:blipFill>
        <p:spPr>
          <a:xfrm>
            <a:off x="3505320" y="1447920"/>
            <a:ext cx="819000" cy="542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1"/>
          <a:stretch/>
        </p:blipFill>
        <p:spPr>
          <a:xfrm>
            <a:off x="3809880" y="2133720"/>
            <a:ext cx="828720" cy="533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2"/>
          <a:stretch/>
        </p:blipFill>
        <p:spPr>
          <a:xfrm>
            <a:off x="3809880" y="2819520"/>
            <a:ext cx="828720" cy="523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657600" y="3048120"/>
            <a:ext cx="15228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657600" y="1924200"/>
            <a:ext cx="9360" cy="11620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95760" y="343080"/>
            <a:ext cx="0" cy="110484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1676520"/>
            <a:ext cx="2476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19720" y="1676520"/>
            <a:ext cx="0" cy="44748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1676520"/>
            <a:ext cx="190800" cy="0"/>
          </a:xfrm>
          <a:prstGeom prst="line">
            <a:avLst/>
          </a:prstGeom>
          <a:ln w="7632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800280" y="4933800"/>
            <a:ext cx="1581120" cy="1333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2514600" y="3581280"/>
            <a:ext cx="828720" cy="552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533520" y="3581280"/>
            <a:ext cx="1847880" cy="1667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6"/>
          <a:stretch/>
        </p:blipFill>
        <p:spPr>
          <a:xfrm>
            <a:off x="2514600" y="4114800"/>
            <a:ext cx="1219320" cy="30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7"/>
          <a:stretch/>
        </p:blipFill>
        <p:spPr>
          <a:xfrm>
            <a:off x="2381400" y="4533840"/>
            <a:ext cx="780840" cy="17337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8"/>
          <a:stretch/>
        </p:blipFill>
        <p:spPr>
          <a:xfrm>
            <a:off x="3886200" y="3733920"/>
            <a:ext cx="3429000" cy="24699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62360" y="1522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9"/>
          <a:stretch/>
        </p:blipFill>
        <p:spPr>
          <a:xfrm>
            <a:off x="6095880" y="762120"/>
            <a:ext cx="2746440" cy="2243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0"/>
          <a:stretch/>
        </p:blipFill>
        <p:spPr>
          <a:xfrm>
            <a:off x="5105520" y="5486400"/>
            <a:ext cx="3733560" cy="54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276720" y="990720"/>
            <a:ext cx="609480" cy="0"/>
          </a:xfrm>
          <a:prstGeom prst="line">
            <a:avLst/>
          </a:prstGeom>
          <a:ln w="152280">
            <a:solidFill>
              <a:srgbClr val="5689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838080"/>
            <a:ext cx="1828800" cy="398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[ rule-file, rule-set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extensions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1689-EE8D-4EAB-8666-76A65A56AED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emplate/shell, why parallel rule 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command allows us to …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cy from code replication, “cloning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ity - Maintenance and configuration independent of enhancement rulese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on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366B3-2425-4BB6-AF56-E6DE3EE8B6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x features used in “e” rules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v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option on 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filefield function for retrieval method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Support Server (w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fax accessibility via msfax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BC functions for retrieval method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connect, db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file, getdocidprop, putdocidpr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B5FF-DC43-4D5A-BF55-0F96EE218D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859"/>
                </a:solidFill>
                <a:latin typeface="Arial"/>
              </a:rPr>
              <a:t>eArchive / eDeliver Rulesets v7.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chi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llel rule set, merged at run-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technology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‘ archive 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m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ve document properties into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rary, doc type, doc id, sub-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, 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tegories, links,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ity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ies variables into archive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B26E7-A133-47FD-8B20-267A17E0B9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249120"/>
            <a:ext cx="8229600" cy="6359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EB8CD-4D4A-47B3-A373-9E224E3E2B0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6ac"/>
            </a:gs>
            <a:gs pos="100000">
              <a:srgbClr val="f4e7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[ INVOICE ] Rule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71500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1276200"/>
            <a:ext cx="6334200" cy="4305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477120" y="838080"/>
            <a:ext cx="2666880" cy="914400"/>
          </a:xfrm>
          <a:prstGeom prst="rect">
            <a:avLst/>
          </a:prstGeom>
          <a:solidFill>
            <a:srgbClr val="5689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chive_sdsi.r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8B797-42D3-4D65-8094-B310BA7F15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20:43:10Z</dcterms:created>
  <dc:creator>Miguel J. Escobar</dc:creator>
  <dc:description/>
  <dc:language>en-US</dc:language>
  <cp:lastModifiedBy>Miguel J. Escobar</cp:lastModifiedBy>
  <dcterms:modified xsi:type="dcterms:W3CDTF">2007-10-17T01:07:11Z</dcterms:modified>
  <cp:revision>100</cp:revision>
  <dc:subject/>
  <dc:title>Slide 1</dc:title>
</cp:coreProperties>
</file>