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D38AD-5824-46CC-83DA-36AB9D4A31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957F1-C319-45F0-83CA-24EB1BEC45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54B39-8C33-49F5-AB56-C793BE0C70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4662B-122C-4B0F-8C94-EFEDD71E7D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94079-0539-43FC-B75C-0C4ACBE6F6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31438-03C3-4325-B7DE-303FAF987D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E41A6-445F-4812-B64C-7614BDAFE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8C300-5C48-4AE2-A298-085FC1E26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5A651-E8E7-4E66-A2A9-AB5F2740D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3F015-E58D-40A3-9926-D9D95CEEB4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5AAD4-7AD6-48EA-A684-FC9EC39AC3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0149D-FB15-45AB-BDB4-A5DE3F32C0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543880" y="6242040"/>
            <a:ext cx="600120" cy="615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581280" y="6597720"/>
            <a:ext cx="5105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DSI Technical Conference 2007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acramento, CA  USA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ctober 18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248520"/>
            <a:ext cx="685800" cy="6094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477120" y="6324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n t e l l i g e n t  T o o l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4e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8534160" y="5790960"/>
            <a:ext cx="609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57E1-266A-4F2B-A280-9E44AC347AC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7.png"/><Relationship Id="rId14" Type="http://schemas.openxmlformats.org/officeDocument/2006/relationships/image" Target="../media/image9.png"/><Relationship Id="rId15" Type="http://schemas.openxmlformats.org/officeDocument/2006/relationships/image" Target="../media/image18.png"/><Relationship Id="rId16" Type="http://schemas.openxmlformats.org/officeDocument/2006/relationships/image" Target="../media/image13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6386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Present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Miguel Esco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nergetic Data Systems, Inc.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400480"/>
            <a:ext cx="8534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859"/>
                </a:solidFill>
                <a:latin typeface="Arial"/>
              </a:rPr>
              <a:t>Sess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09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5FD32-63F8-406B-92F9-2DE737DE18C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24480" cy="2847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13BC4-0BD7-4DC2-9D7C-3961BD9BF2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4057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B3A93-DD78-47D7-9C7C-0746194046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8028000" cy="319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46897-C498-4571-9FE3-69C0799073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14400" y="1257480"/>
            <a:ext cx="8008920" cy="4343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50EE1-D18E-4564-8AA7-1E8BC6F167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7027920" cy="2152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42D5F-B4D9-4149-BBC8-B0A17F53DA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eliv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(s)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subjob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 “properties”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email and fax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B5F52-2E64-4235-B6F6-E3EA4B8B61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B914D-80E3-4C89-8105-C8BA61454E1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y Methods:  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copy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D4B60-B3CA-4BA8-9543-32DD9346BC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al Metho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fixed lo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delimited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v textfile looku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BC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69844-B8B7-407F-AB4E-1794208018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0023C-B7D5-4E8B-A76F-ECB699188F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Outli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component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templatize rule-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x featu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FC21D-C6DB-4488-9712-D43A018FB5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3506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6C770-958B-4D8F-9257-056A4D2FF5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/ Doc ID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25207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252F-DC5B-4772-97A9-8D81A0201D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3000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32FFF-6527-4110-BDC9-FDE0823D10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Specific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4344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31731-AFDB-492C-BC9A-55FA2AE751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5867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185840"/>
            <a:ext cx="7772400" cy="4484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41CE7-DF32-491F-87C7-911C165698B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Overrid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2860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9D60D-6D7B-43A9-9206-A8E14DAEDEF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914400" y="1324080"/>
            <a:ext cx="5581800" cy="4209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2207C-EC85-4686-8DDD-D94CCACD35C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581800" cy="2695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80EB9-5D90-4233-9109-15DFE9542C0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914400" y="1185840"/>
            <a:ext cx="5572080" cy="44863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499E6-ABC8-4078-BFC2-ACEF14DB97A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3867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FF00B-C464-49C9-969D-68ADF8E5221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C1D65-07C6-4016-9D0E-B445F70EA4F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38880" cy="513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367B3-67A0-418C-B815-E2DA20042D7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914400" y="3403440"/>
            <a:ext cx="7543800" cy="2759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381D0-3E8E-4367-8798-9B43786573F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315200" cy="3645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914400" y="1219320"/>
            <a:ext cx="5181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ED642-2D53-489C-8E65-8217CF01A88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580160" cy="2438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19280" y="1981080"/>
            <a:ext cx="7510320" cy="4224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C663B-45C8-4643-B235-6A2A2BD1B1C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4857840" cy="4467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AF179-6DD2-4B6A-B760-C279120E330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eliver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ahun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055 lines of codeblock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delivery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ail / fax / las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ultaneously for same do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templates swap in/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address retrieval methods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sence” of eDelivery only 1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2133720"/>
            <a:ext cx="2819520" cy="2228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decfc0"/>
                </a:solidFill>
                <a:latin typeface="Arial"/>
              </a:rPr>
              <a:t>INDEPENDENC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NTAIN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838080"/>
            <a:ext cx="365760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94E0A-104A-41F5-B3D1-8B873A92AC6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3467160" cy="5238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486400" y="15238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 tha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K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5F9E4-7E53-46F3-8112-28783EFF4C5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62440" cy="4733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400800" y="1219320"/>
            <a:ext cx="228600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y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stor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B273F-2C1E-4A6D-A955-7DF429C1D16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48240" cy="53434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400800" y="1219320"/>
            <a:ext cx="22860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exec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delive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clos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5E6C5-86BB-4012-9546-434C2BA8812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3429000"/>
            <a:ext cx="3352680" cy="228744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n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of Se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E8DBB-FF28-4333-9A99-3F9F7BB667D1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4724280" y="152280"/>
            <a:ext cx="914400" cy="507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3809880" y="152280"/>
            <a:ext cx="828720" cy="514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57600" y="38088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3809880" y="3352680"/>
            <a:ext cx="1295640" cy="285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95760" y="343080"/>
            <a:ext cx="0" cy="110484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3"/>
          <a:stretch/>
        </p:blipFill>
        <p:spPr>
          <a:xfrm>
            <a:off x="800280" y="4933800"/>
            <a:ext cx="1581120" cy="133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5"/>
          <a:stretch/>
        </p:blipFill>
        <p:spPr>
          <a:xfrm>
            <a:off x="533520" y="3581280"/>
            <a:ext cx="1847880" cy="1667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6"/>
          <a:stretch/>
        </p:blipFill>
        <p:spPr>
          <a:xfrm>
            <a:off x="2514600" y="4114800"/>
            <a:ext cx="1219320" cy="30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7"/>
          <a:stretch/>
        </p:blipFill>
        <p:spPr>
          <a:xfrm>
            <a:off x="2381400" y="4533840"/>
            <a:ext cx="780840" cy="1733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8"/>
          <a:stretch/>
        </p:blipFill>
        <p:spPr>
          <a:xfrm>
            <a:off x="3886200" y="3733920"/>
            <a:ext cx="3429000" cy="24699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62360" y="152280"/>
            <a:ext cx="3429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9"/>
          <a:stretch/>
        </p:blipFill>
        <p:spPr>
          <a:xfrm>
            <a:off x="6095880" y="762120"/>
            <a:ext cx="2746440" cy="2243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0"/>
          <a:stretch/>
        </p:blipFill>
        <p:spPr>
          <a:xfrm>
            <a:off x="5105520" y="5486400"/>
            <a:ext cx="3733560" cy="54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276720" y="990720"/>
            <a:ext cx="6094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838080"/>
            <a:ext cx="1828800" cy="39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 rule-file, rule-s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extensions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6FB74-50D3-4F7C-AD69-9688970E4DB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emplate/shell, why parallel rule 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command allows us to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 from code replication, “cloning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ty - Maintenance and configuration independent of enhancement rules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66C09-4DF8-4EEB-9AAF-3A7D2469D1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x features used in “e” rules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option on ge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filefield function for retrieval meth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Support Server (w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fax accessibility via msfax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BC functions for retrieval method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connect, db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file, getdocidprop, putdocidpr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F48E8-FD11-4B61-9CAE-D6A5A9F6D2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archive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ve document properties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archive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4F881-CB3F-4987-A563-13FE313196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AB594-511C-49D3-ADC0-9BD807C82E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6334200" cy="4305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18746-8CA6-446C-8C07-80049A271E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20:43:10Z</dcterms:created>
  <dc:creator>Miguel J. Escobar</dc:creator>
  <dc:description/>
  <dc:language>en-US</dc:language>
  <cp:lastModifiedBy>Miguel J. Escobar</cp:lastModifiedBy>
  <dcterms:modified xsi:type="dcterms:W3CDTF">2007-10-17T01:07:11Z</dcterms:modified>
  <cp:revision>100</cp:revision>
  <dc:subject/>
  <dc:title>Slide 1</dc:title>
</cp:coreProperties>
</file>